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9B7-298E-4A5C-B856-9A88A3BB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00A-A83F-4EFC-AE31-AC02A7F1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107D2-AF74-430E-B1E5-484BF664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6B34D-1DC6-453D-9E99-72703C74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1E584-272F-42D5-9440-33F90907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BA7AB-2F43-4214-86FA-B3D85C2B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ABD05-99F3-4D10-8093-51A90AB7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45C9E-8A60-42B8-B226-2AF1F5FF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B67F7-5CB0-4057-8D5A-7A739206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2C6A4-6B2E-454F-A92D-9D2AE45C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B98F5-F718-4A1C-8361-22286483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C7D43-7F9E-4518-9BFC-9D2B50C7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25A-249C-4D91-978A-175145FC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9E994-CA3D-414B-9950-23CE6D67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9E5F1-9F39-4C41-9C05-4B529D07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EB1A7-291C-4B80-92E8-C2EBF3FF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B9534-A081-4F01-9AC1-7305AD5B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A04D2-9E60-4346-A31E-3AFB6960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10B80-29E4-40BE-B840-0B146CEB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0E933-19DF-4D2C-A10E-E927ACD8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5A116-0ACE-43CD-A9AD-6E34CFC0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C8B1B-6012-4402-8254-632DC280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1CBEF-46CD-4F26-BF39-9C86F606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8DC7-F42F-4E99-B10B-068C2709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3DAD9-A30A-4860-B851-1992CE36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0F025-02C0-43B0-A9C0-790F79CF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68093-EFCF-425F-8A66-3CD81666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138B9-33C8-442B-BF1D-C7EF0505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9D297-8D71-4103-947B-2D9C728E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C5596-49CA-4093-AD84-46FC6DF1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18C56-FE64-481A-A21A-76C47B75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FFD69-199B-4D7F-B934-A370C030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4FF58-3B61-491D-A52E-FE027E02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CCBC1-0DB6-4E6A-B83C-8E076506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95C2-BEDB-4AE6-AC89-777FC857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9D45A-A5AE-41C3-9E74-62FB7BC0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AECF1-E6DF-444C-A0ED-EE6654B6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F061F-6937-43E3-83C5-002FF5FA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46518-A842-4B0F-A50C-7E2874EB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A2B51-E79D-4D31-922D-66728064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AC8A4-EF03-4217-8612-2747FB27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AAAD6-28A6-4483-BE23-38196E1D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3BAE5-BC58-4C0D-8AB9-A6CFC0B4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AC7B5-6BC0-4000-8A41-7E625A0E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0C028-9466-4AA8-B293-665B0C69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A000-BA24-47BD-99E2-948171F7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A6D2C-087D-48A2-AB45-8FABCFC3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C0C13-5191-41A7-A343-260688A1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BAB60-FBFB-48EB-8FCE-2CC094DD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295CA-B7A9-431E-8083-A60AA440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9354C-5350-4445-8D3B-08393ADE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54BDA-97B8-4AE1-A7FB-8DB832FD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A802D-99A0-4F03-9E2D-E2B72B52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8DC7DF-F56D-4C17-B7FC-485ED36C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B4684-58A0-4890-9E43-0BE7226D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86952-4C6A-48FA-8870-B1FF0978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5539-5DE6-48B2-8938-9A4C988B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82B5B-22A9-47B0-AC41-69B90429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81E5EF-A357-4E30-8397-AC761FE4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51DB85-52F8-4128-9B66-079842A7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6172A6-9DB7-48B0-AF30-CEE8DD29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5BE0DE-8760-4C96-AABC-A7020777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FCD43-5D24-4C3A-9865-106FF474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09B2F-D12D-4F0E-AAC2-8BFC82BF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A9BBF-6D39-4867-9DAF-CD2863BE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A31CE7-5375-4BA2-A507-44213EAB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0B9BDF-0C94-4D02-9F7A-D1B2CF38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313C-7564-4C78-9271-1FF0589C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4A6014-4753-444B-B03E-D88B84C1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88475-5096-4C77-8965-D3BA7FEC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5FEB33-AEE8-4A63-8688-149A863C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041372-F28B-48E8-914C-9CC21817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1456C2-79A3-44B3-8084-FEA95131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52520-B9DE-4B5E-B52E-A60D333F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87EB0E-C097-4FCA-9723-05BD79EC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0BCA2-AD55-4EC6-98FB-5DC601D8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7D34C9-35BD-4EF6-8F50-B2B86A9F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25A5A8-D76A-4A44-B026-B0EB7032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6135-DAAA-4D3C-BE1C-7FF25C64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11F8BD-076F-4886-A4FD-766345BA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702AB8-9B21-4496-8567-B4208557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DCB699-E50B-4606-98C0-D3D6B56E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EA5E03-EEAC-43E5-B373-A17A5BCC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CC3DB4-B4E6-46A0-8901-1A4B444D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251F6F-307C-403F-8D2E-ACD211FB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CC4BE5-66F7-4217-9FCD-9F56A27D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D5570-A5A6-4590-B460-53FE99BC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766015-071A-48A2-9C33-114D3FF1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B64084-4E09-4DAB-AC6C-25B3BD7F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1626-8CCE-48F5-A861-1AC18181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870071-A8E1-40C3-B5A6-2612FC77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70C208-554F-456A-8AFF-824EDA9C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859A4F-20CE-4C04-A95E-51E2E08D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D2D8B-00E2-44ED-BA1C-43611AF3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61C721-26C9-45FF-99D9-8D162C98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821D14-4E11-4489-97D4-08696DA5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CDCD1C-C4F7-443A-B9EF-AF9FEF45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78E923-49E5-4A13-AFC0-ABB0496A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57E82-F779-43B2-B5E1-50A012E8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A0D3E3-BEAA-4338-954F-D9794A16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82C9-E23E-4BF7-B40E-7F6357BA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D37231-9DEE-4221-8CFB-AC7D1906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45A4A6-E39C-4DC0-ACC7-D092B86A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1106DB-4410-48AE-954B-C1B76589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63F085-F92C-4E14-A4C2-8EFD163D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6712AE-CBDE-4096-8512-70F6D180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5678E-4494-4213-89D6-94ADB602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863453-7732-4C9A-8FC8-A8C033F3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601E7D-0084-4C18-971D-E0DE792A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EE4F27-DEFC-4DD7-ACC6-543A7985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B16D7F-09D7-4262-A26D-86B578C9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3A64-EC44-4648-A5FC-8C52C461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D232-B9F5-4F7A-8F07-E2612E2E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8D1A2E-D5F2-4ED6-8C43-75D0D0E2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54E941-C08A-4C17-AB39-7325C349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1D28D6-B732-48EC-90FD-4DA26AA3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DA705E-CC1F-447D-A7EF-8E742337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525C6C-2543-4990-94A9-D6B948D5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68F829-20E9-41A1-A263-DDC49DD8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421E02-1A53-494A-A33B-F4FE0083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68037F-434B-4E08-9EFD-45C097B1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362D00-D4AF-4D10-802A-F4A82AE3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CDB35A-9344-4B85-9DFC-A0B7EB7E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60A1-D49B-4F1B-8B45-80095F2E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43538F-960A-48A8-A493-C46763D7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BB0F8A-5CCC-46D2-B59C-37F97987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208274-468D-490B-A8E3-7F978F78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EAB243-CF89-4A6D-94C3-1E1177F5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91DB0A-2A48-4CC2-AF9A-95E8202F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9E84ED-BBBC-41A3-B3F5-97E42083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50A32C-E340-4E84-95F1-402B6A61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D4D94B-6586-4AFB-B898-B9FA231D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48727C-739C-4023-89CE-9C4C7E65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446DDC-345B-4D1A-81B5-35D7FCED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A294-59D1-482E-A257-F6149E1B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89B441-AAD4-49E6-838C-A648ABFB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F8AAD6-218B-46AA-82F0-C57F12AB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D8A235-4888-4CC7-A6B0-18968704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05D04B-9B11-4990-928C-ACBE370F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CF6A4A-5375-4BD2-BB7C-6215D541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32985E-7F24-4442-9BBE-58106C4C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979481-8F00-4650-ACCD-5E62C71D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D7CB23-B4A6-44D5-961B-06BCE17E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1A3A5B-EB1C-4B90-BB92-1B0C614D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C4B10C-68A6-47D9-83B9-66914523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485E-3C62-418C-85BC-D0BFBBF5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DF785C-7A60-4D08-95C3-B7201A64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D2E6A5-5778-492E-BB87-973990B3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BA251F-6F34-4235-9E2F-9792F13A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2E9FFF-BBB2-4144-95F6-22330B52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574D04-6DFA-44B3-85D8-D29C0C0F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C3AFEA-FBB5-4A2C-A11B-DCF37719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7BE850-5276-46D0-BB23-5680D355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24539F-F2DE-4F10-A11B-9990E142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CB786A-80DA-4A8C-B691-30ED6EC9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839F2C-75D5-4764-927B-2FA4F625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E21E-E047-41FE-8670-D3C61937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9F2DD0-A0BA-4068-BD12-031E631F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48259D-2C9C-44A0-BC6B-08F2A33E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358608-C996-4C95-A9FA-3DFC5297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EF9D13-ECA1-4022-B712-4B20514B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3540A8-BE76-48FF-B438-807899DC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F27D87-DEE9-41E8-8880-3786D7AA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8299CE-6F0A-48F3-A389-EB477D67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B27D4B-0B90-4B83-B3B5-B2321B83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9058E3-95C2-442B-8D44-6A9431C2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F1C3A8-AD69-4D1F-9857-A19E4F8E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47D1C-10FA-4F11-9E13-6A3450F7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37C957-E4BE-410A-85ED-5E78CF18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5CDB31-1F91-4998-A35F-BBF2189D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49F430-8725-410D-9AEE-52825655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30A87-9363-4CA6-B8AB-D68DF4A3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132AF-A35F-49D1-BEC6-02042A33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7600E-6435-496C-8CFE-1864E398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00B0C-2D05-4B60-8CBD-AEAFF9C9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0A6-95CA-4197-8F56-1F26C2B4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52EFB-53B2-4602-A7E0-41807CEB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0FEA1-8ADB-4BC3-A846-03649E2D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39FE8-B71B-4A30-B8DE-45D08028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3DE12-DA6B-4850-B90D-2B0D791E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2B5A3-FB85-4993-8F2A-67E0FA90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DF523-B52E-4B5A-8616-DBD19B3D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DAA59-2017-4194-8555-EDBFCCA7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1A995-A402-48B5-B934-1384EC47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BA3DB-4FA7-454B-9837-364C05B4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96BB4-2901-4AA7-91F6-A5EE0C66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0AF-A5E8-45B1-9616-6560A148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533B8-4C85-4FF6-80F4-0D1CB851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A863D-FEA8-40E3-942D-5C0CF110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5054F-DA2C-4C30-8417-B756A5A3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71CD1-8A7D-4E0E-8FBD-EA6954C9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14236-A6DB-4877-B39B-831F772E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3ABE6-76B8-438D-AE3C-FB93107F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FB28F-E240-41D7-96DD-B5A14529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53226-6C53-48ED-BA02-26957CA0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F6752-8A51-4578-B845-FB3999BF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6FAEA-0F31-4512-A1C3-02BD1936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CA96-AF44-42B5-BC53-5DA1CBCD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7095F-1D57-496C-92F0-D6A75572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7C935-EE2C-4592-8861-5515D4FA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10F24-0323-4DE0-BAA0-A970265E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CB025-47FD-46BD-B72F-6B0781E5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77C40-9F1F-4FC6-89AB-B1C191CF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BE1AF-7B86-4A75-A423-668596EA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73502-3719-41E6-820E-A322249A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AA212-7A82-4406-86B7-0A828BF4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E408A-283C-49D7-B456-0A1D0448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3CE85-723A-44FA-A2C9-336C4103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9C6-286A-4E27-9B4C-52C18F40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4AA2A-BC35-40C4-903F-93CBB9C5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4D02E-B853-4AA5-8AE2-2BDA177E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FC46A-F440-4FE6-B4F9-9D4A962E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80E21-AA0E-4C99-98F7-B4F465C6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E7F7F-E810-4C06-91E4-23CCA96A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5E484-2087-4364-81F7-5C509353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275D7-E8D5-489B-AE2C-8B4928EE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BD77D-4EDF-4DBB-AC59-322616D3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2B87F-F5C8-4280-A308-6E07B8E1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11F84-311E-4FA4-927A-027A9CAF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64C-796A-4DB4-AD33-CA4D4E13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745FE-2388-4518-8761-3D1A5F68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02ED4-2864-4E66-9826-C0A7C8D8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ED2AB-BD29-4549-A192-791BA1F1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E5344-E7A7-4729-8B6F-BD2A6857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F41CA-35EF-4900-861B-7DAD0AD3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7D4DC-BBD8-4FB4-A3B6-94EFADC5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5E3B4-DB17-4C93-96EC-AACEC8E2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55330-127A-4169-9734-18EC04B9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951A5-1BB1-48D9-8CC6-0601110D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432B9-8AF4-488A-933B-946E9391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77B-B6B5-452B-BB90-85B9FD9B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B5A9C-61C3-479F-B71A-4F999F95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87DA0-1FD7-47D0-8453-BF994274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62EC3-8AE8-45BE-A163-D8EF11FA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BC278-4761-49E8-9415-B820436B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A0BAA-6A46-480A-990B-BCD1B7EB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6A0F0-E55F-4D42-BCCF-733ED6D4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D5F9A-A378-4AAB-AE80-9C6B0899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0227D-8514-462C-A795-C6465BF3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972E5-856C-463D-8012-C01A74BC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93E1B-E636-457A-98CA-4CE7D39C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FBE-4A16-4047-B433-B83A7D02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1F9EF-FA5B-4AA8-99E6-7E19BD97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206E6-57D8-4BED-9D9B-C851F146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AE553-75AC-46D0-8B6A-3D48FCF9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2873C-A3D7-43B7-AE8C-B68A789D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FC181-5593-4392-9BE4-8B5DE252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00B4B-5564-4769-BA51-7E28D1C3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B458A-43F6-4C15-84C7-55BDD39B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8A3E3-0844-4012-849A-7B3516B1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8A1C7-613D-438C-891F-F2330FE9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06F36-0BE9-4257-B12C-BC02E582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E8EB-5ECF-4C31-AE82-BBE79CFE5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094E-E03F-450B-BD9D-D554158E69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8107-3C05-47CB-BDD4-7219D34945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5DED-A1BE-42A2-A8D4-3D180C2989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2293-B8AA-4269-A1C4-8D0D1F32CD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8FB9-D2A9-488B-9229-F6F1CA4906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B5A1-A6BE-46A0-AAD8-6E2F47AC1F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7EAC-FE5E-4F57-B7AA-E90B085125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6C75-74E6-4998-A22C-8960AEBECB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5635-7701-4767-8CA6-A585F0BF14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D27A-3A7C-4449-87CF-2D772A1773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DFFC-C6B4-4803-A20D-92034F604E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D3D9-AEBC-45CC-835F-B49EC9086A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E086-262A-48BB-9852-10A2D5327E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88A9-6142-432E-9555-406164093B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0CB2-501B-4A31-9347-3ABF5163AC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3466-44A8-4CCE-8830-83268AE6D6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983B-609C-4239-843E-AC084AA711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838F-E57D-45D0-BEB0-74DBCCC919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70C9-6136-474B-802D-B229143CF8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66F8-17CA-44EA-A38E-2A09271A1E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319D-16A7-4E1B-84EB-953CBF2308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C7C8-8B3B-4903-97A7-2F26DDBD19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CBB9-212C-41BA-8C5C-DF303DAF67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09BE-A9AA-40BD-9A27-D3B278AD43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B126-ADFB-42D2-BF0E-DDB8D599D5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86AB-438D-4BE1-97EF-6956506C1D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9240-3634-4FFC-835D-99ABC0C7C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29B2-A30A-4954-B33D-4376C21EC5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A240-AF98-4FA7-8409-3D5DB5D6D0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F95B-BD96-4125-AF5B-DA53359089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A165-E496-46EE-B8BA-AB5E1D4959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2FD1-2B5A-4753-A642-D510FDA3BF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ED06-A0FB-41F1-9AE6-8E0E5DCBF5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8D1E-E2FC-44C8-BA80-F5B9818F41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BB35-2518-41C2-8D6D-46D7369D0B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AEA2-D959-453D-8E39-6166FD50AB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9E3C-D167-4F71-9798-CD9D668636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9052-A44D-40A4-9A45-425BC408A3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FA61-5A06-4634-ADC1-791154BF90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04760" y="3138480"/>
            <a:ext cx="89344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2" descr=""/>
          <p:cNvPicPr/>
          <p:nvPr/>
        </p:nvPicPr>
        <p:blipFill>
          <a:blip r:embed="rId2"/>
          <a:stretch/>
        </p:blipFill>
        <p:spPr>
          <a:xfrm>
            <a:off x="162000" y="2100240"/>
            <a:ext cx="8820000" cy="26575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2916360" y="37450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580000" y="37609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8317080" y="3745080"/>
            <a:ext cx="50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223920" y="1595520"/>
            <a:ext cx="8694720" cy="3666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118728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1187280" y="42926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95400" y="800280"/>
            <a:ext cx="8953200" cy="52578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1116000" y="13557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1116000" y="29383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1116000" y="4005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1116000" y="50846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324000" y="857160"/>
            <a:ext cx="8496000" cy="51436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5580000" y="3500280"/>
            <a:ext cx="503280" cy="3049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2857680" y="3730680"/>
            <a:ext cx="502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00:32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